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30F94-017F-40C5-8237-AC648B482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387B4-21D6-4ABA-BF02-034A36F53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B0B4C-DE1A-43BF-AC86-25DE5CB9D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2FAAA-D301-4549-BD72-6B68E238F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D6EFD-4957-450C-97D1-0731B1A24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1FC29-CE48-4135-866F-A21121893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D3539-A751-42E5-B247-2CEA44E43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46A8E-7254-418D-882B-A128AD75E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858E8-F212-45C7-B3CD-90EC46462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A338B-7FF9-44AF-9E19-B05DB8F59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60D6C-C006-4085-85A3-79DF47132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BD0C4-2555-44BB-90F6-3D0E657B7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EA13-716D-45F9-8DE5-B49033F2BF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SAĞLIK BİLİMLERİ FAKÜLTESİ</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556400" y="558720"/>
            <a:ext cx="142560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0:59:25Z</dcterms:created>
  <dc:creator>Microsoft Office User</dc:creator>
  <dc:description/>
  <dc:language>en-US</dc:language>
  <cp:lastModifiedBy>Microsoft Office User</cp:lastModifiedBy>
  <dcterms:modified xsi:type="dcterms:W3CDTF">2018-05-08T11:01:45Z</dcterms:modified>
  <cp:revision>1</cp:revision>
  <dc:subject/>
  <dc:title>PowerPoint Presentation</dc:title>
</cp:coreProperties>
</file>