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5BB75-8CC8-4EF8-A892-533B51B01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4EDAA-8338-42DA-B95B-70F493093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CE8DB-ED66-41A0-BE45-4143B367B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98401-2A6D-4933-A063-DA0FD7B8B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3F03C-009B-40E9-9A99-903D1D89B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F2E43-A7E7-428E-8653-6795A042E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F1FE9-3201-432A-B494-598CDDD8D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8E526-10F0-4DD1-B182-A2EA3C953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AE937-DC7B-42DE-93D0-14639D4FA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D4C34-7471-42F0-91D3-E9120F10B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691B3-D900-4342-9EDD-BF8443899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5D4CF-24B7-4544-A330-7447480E1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A566-0C8F-4CE5-8987-50E2EB4268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AĞLIK BİLİMLERİ FAKÜLTESİ</a:t>
            </a:r>
            <a:endParaRPr b="0" lang="en-US" sz="54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75560" y="550800"/>
            <a:ext cx="1266840" cy="126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05:40Z</dcterms:created>
  <dc:creator>Microsoft Office User</dc:creator>
  <dc:description/>
  <dc:language>en-US</dc:language>
  <cp:lastModifiedBy>Microsoft Office User</cp:lastModifiedBy>
  <dcterms:modified xsi:type="dcterms:W3CDTF">2018-05-14T07:32:11Z</dcterms:modified>
  <cp:revision>2</cp:revision>
  <dc:subject/>
  <dc:title>PowerPoint Presentation</dc:title>
</cp:coreProperties>
</file>